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750050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750000" cy="988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6"/>
          </p:nvPr>
        </p:nvSpPr>
        <p:spPr>
          <a:xfrm>
            <a:off x="3822840" y="-360"/>
            <a:ext cx="29239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903240" y="740880"/>
            <a:ext cx="4944960" cy="37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74640" y="4695840"/>
            <a:ext cx="53992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7"/>
          </p:nvPr>
        </p:nvSpPr>
        <p:spPr>
          <a:xfrm>
            <a:off x="-360" y="939132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8"/>
          </p:nvPr>
        </p:nvSpPr>
        <p:spPr>
          <a:xfrm>
            <a:off x="3822840" y="9391320"/>
            <a:ext cx="29239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6FE3-0D49-4208-B50E-C4AECD52D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22840" y="9391680"/>
            <a:ext cx="2923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DFC5-772A-403B-A03E-2E1BA59F3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4960" cy="3708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4640" y="4695840"/>
            <a:ext cx="53992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22840" y="9391680"/>
            <a:ext cx="2923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9151-428F-4124-8845-B58E019CC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4960" cy="3708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4640" y="4695840"/>
            <a:ext cx="53992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22840" y="9391680"/>
            <a:ext cx="2923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4C6E-5BA0-4DF0-B0B6-8D60CE808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4960" cy="3708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4640" y="4695840"/>
            <a:ext cx="53992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65AC7-0209-42E7-9CD1-0F39ECD0EE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46D6E-96B1-471A-A541-86F50B35A4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1648F-3D29-43A0-AAE1-7F0FB6697C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9EF2C-4283-4839-A0BA-33765DD7E1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E8AF4-6604-4F02-A566-41F5DCBFF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30195-72B0-4F69-B3D9-B35CF54B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D11D1-C4E8-4BCA-B0BE-CBA61336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4AC81-C8A3-46C6-B3EC-EDD424CA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F4989-91AA-4C26-9DD6-03C20E25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427CA-FA42-4B1B-A0D5-81BFBDF1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11078-2074-40EC-853A-C3C1B199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9560A-B5F2-4D8F-9C85-D1ECA6F267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5AFFD-1A5B-49E3-8D40-DC137884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DE875-677E-4FDC-B190-0153C553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C9530-1179-463D-B9FC-212BC643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4F7BC-9B5F-4BA7-8A24-70679C7FE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BB7E4-DD55-4AE6-AC80-DB163FA0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4691F-7BCD-4255-A9AF-0FFEF289D0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26511-DF56-4060-B0D1-3A0CEA601B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BC669-35B9-4DFE-8407-AFAA15E22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6F5F6-87D0-4AF4-89C2-121ED08017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CE753-7CA3-4577-A450-325A31F2AC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E0777-830C-47B9-B7EA-A0B2BF3B0F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488DD-7F73-4D93-8CF7-5F9DB5D53D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BF1A-F2FA-4902-A8C3-75FCAFA0E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20"/>
          <p:cNvSpPr/>
          <p:nvPr/>
        </p:nvSpPr>
        <p:spPr>
          <a:xfrm>
            <a:off x="7227720" y="14400"/>
            <a:ext cx="18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IT-3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03360"/>
            <a:ext cx="9009000" cy="1052640"/>
            <a:chOff x="0" y="150336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1611360"/>
              <a:ext cx="712440" cy="474840"/>
              <a:chOff x="293760" y="161136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161136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161136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033640"/>
              <a:ext cx="739800" cy="474840"/>
              <a:chOff x="417600" y="203364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03364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03364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196056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150336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232560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Rectangle 18"/>
          <p:cNvSpPr/>
          <p:nvPr/>
        </p:nvSpPr>
        <p:spPr>
          <a:xfrm>
            <a:off x="6588000" y="5734080"/>
            <a:ext cx="226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ugust 20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7227720" y="14400"/>
            <a:ext cx="18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IT-3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Picture 22" descr="TOG"/>
          <p:cNvPicPr/>
          <p:nvPr/>
        </p:nvPicPr>
        <p:blipFill>
          <a:blip r:embed="rId2"/>
          <a:stretch/>
        </p:blipFill>
        <p:spPr>
          <a:xfrm>
            <a:off x="3627360" y="2573280"/>
            <a:ext cx="2497320" cy="3419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5DB5-72AB-4203-8E6D-BB4D5E5AEF5C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9637-248A-4A4B-94AE-B1B633C8F2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640" y="76500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-300 No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3" descr="FROM2"/>
          <p:cNvPicPr/>
          <p:nvPr/>
        </p:nvPicPr>
        <p:blipFill>
          <a:blip r:embed="rId1"/>
          <a:stretch/>
        </p:blipFill>
        <p:spPr>
          <a:xfrm>
            <a:off x="4149720" y="5229360"/>
            <a:ext cx="1181160" cy="157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2" name="Picture 54" descr="FROM1"/>
          <p:cNvPicPr/>
          <p:nvPr/>
        </p:nvPicPr>
        <p:blipFill>
          <a:blip r:embed="rId2"/>
          <a:stretch/>
        </p:blipFill>
        <p:spPr>
          <a:xfrm>
            <a:off x="6264360" y="5230800"/>
            <a:ext cx="1181160" cy="157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3" name="スライド番号プレースホルダ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8895-4623-4E58-A381-35BBFBE446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-300 Memory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Picture 6" descr="1"/>
          <p:cNvPicPr/>
          <p:nvPr/>
        </p:nvPicPr>
        <p:blipFill>
          <a:blip r:embed="rId3"/>
          <a:stretch/>
        </p:blipFill>
        <p:spPr>
          <a:xfrm>
            <a:off x="1050840" y="4643280"/>
            <a:ext cx="7353360" cy="5241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3796560" y="212400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6M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1050840" y="2260440"/>
            <a:ext cx="0" cy="31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Line 15"/>
          <p:cNvSpPr/>
          <p:nvPr/>
        </p:nvSpPr>
        <p:spPr>
          <a:xfrm>
            <a:off x="1093680" y="2425680"/>
            <a:ext cx="7336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8475840" y="225900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5773320" y="2443320"/>
            <a:ext cx="147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198.70M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4200480" y="2703600"/>
            <a:ext cx="4276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8475840" y="257508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4202280" y="253044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6760800" y="2664000"/>
            <a:ext cx="138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7.54MB fre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Line 23"/>
          <p:cNvSpPr/>
          <p:nvPr/>
        </p:nvSpPr>
        <p:spPr>
          <a:xfrm>
            <a:off x="6237360" y="2933640"/>
            <a:ext cx="2205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24"/>
          <p:cNvSpPr/>
          <p:nvPr/>
        </p:nvSpPr>
        <p:spPr>
          <a:xfrm>
            <a:off x="8475840" y="279864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Line 25"/>
          <p:cNvSpPr/>
          <p:nvPr/>
        </p:nvSpPr>
        <p:spPr>
          <a:xfrm>
            <a:off x="4202280" y="280044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4423680" y="266400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.16MB in u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Line 27"/>
          <p:cNvSpPr/>
          <p:nvPr/>
        </p:nvSpPr>
        <p:spPr>
          <a:xfrm>
            <a:off x="4202280" y="2933640"/>
            <a:ext cx="207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Line 28"/>
          <p:cNvSpPr/>
          <p:nvPr/>
        </p:nvSpPr>
        <p:spPr>
          <a:xfrm>
            <a:off x="6270480" y="279864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5" descr="1"/>
          <p:cNvPicPr/>
          <p:nvPr/>
        </p:nvPicPr>
        <p:blipFill>
          <a:blip r:embed="rId4"/>
          <a:stretch/>
        </p:blipFill>
        <p:spPr>
          <a:xfrm>
            <a:off x="1050840" y="3022560"/>
            <a:ext cx="7694640" cy="530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3796560" y="373860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6M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30"/>
          <p:cNvSpPr/>
          <p:nvPr/>
        </p:nvSpPr>
        <p:spPr>
          <a:xfrm>
            <a:off x="1050840" y="387504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Line 31"/>
          <p:cNvSpPr/>
          <p:nvPr/>
        </p:nvSpPr>
        <p:spPr>
          <a:xfrm>
            <a:off x="1050840" y="4008600"/>
            <a:ext cx="7336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Line 32"/>
          <p:cNvSpPr/>
          <p:nvPr/>
        </p:nvSpPr>
        <p:spPr>
          <a:xfrm>
            <a:off x="8386920" y="387360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46"/>
          <p:cNvSpPr/>
          <p:nvPr/>
        </p:nvSpPr>
        <p:spPr>
          <a:xfrm>
            <a:off x="8507520" y="2963880"/>
            <a:ext cx="295200" cy="6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Oval 47"/>
          <p:cNvSpPr/>
          <p:nvPr/>
        </p:nvSpPr>
        <p:spPr>
          <a:xfrm>
            <a:off x="4076640" y="5410080"/>
            <a:ext cx="719280" cy="540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Oval 48"/>
          <p:cNvSpPr/>
          <p:nvPr/>
        </p:nvSpPr>
        <p:spPr>
          <a:xfrm>
            <a:off x="6146640" y="5219640"/>
            <a:ext cx="1395720" cy="53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50920" y="2013120"/>
            <a:ext cx="27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M (256MB MobileDDR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94480" y="3619440"/>
            <a:ext cx="27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sh ROM (256MB OneNAND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Oval 56"/>
          <p:cNvSpPr/>
          <p:nvPr/>
        </p:nvSpPr>
        <p:spPr>
          <a:xfrm>
            <a:off x="4797360" y="5410080"/>
            <a:ext cx="719280" cy="540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Line 57"/>
          <p:cNvSpPr/>
          <p:nvPr/>
        </p:nvSpPr>
        <p:spPr>
          <a:xfrm flipH="1" flipV="1">
            <a:off x="3581280" y="4824360"/>
            <a:ext cx="586080" cy="674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Line 58"/>
          <p:cNvSpPr/>
          <p:nvPr/>
        </p:nvSpPr>
        <p:spPr>
          <a:xfrm flipV="1">
            <a:off x="5246640" y="3294000"/>
            <a:ext cx="720720" cy="2114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Line 59"/>
          <p:cNvSpPr/>
          <p:nvPr/>
        </p:nvSpPr>
        <p:spPr>
          <a:xfrm flipH="1" flipV="1">
            <a:off x="6821280" y="4824000"/>
            <a:ext cx="4572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5694120" y="4017960"/>
            <a:ext cx="137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66.04M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Line 61"/>
          <p:cNvSpPr/>
          <p:nvPr/>
        </p:nvSpPr>
        <p:spPr>
          <a:xfrm>
            <a:off x="4437000" y="428472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Line 62"/>
          <p:cNvSpPr/>
          <p:nvPr/>
        </p:nvSpPr>
        <p:spPr>
          <a:xfrm>
            <a:off x="8383680" y="414972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6850440" y="4284720"/>
            <a:ext cx="95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6.62MB fre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Line 65"/>
          <p:cNvSpPr/>
          <p:nvPr/>
        </p:nvSpPr>
        <p:spPr>
          <a:xfrm>
            <a:off x="6157800" y="4508640"/>
            <a:ext cx="2205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Line 66"/>
          <p:cNvSpPr/>
          <p:nvPr/>
        </p:nvSpPr>
        <p:spPr>
          <a:xfrm>
            <a:off x="8385120" y="437364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4690800" y="42847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9.42MB in us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Line 69"/>
          <p:cNvSpPr/>
          <p:nvPr/>
        </p:nvSpPr>
        <p:spPr>
          <a:xfrm>
            <a:off x="4437000" y="4508640"/>
            <a:ext cx="1755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Line 70"/>
          <p:cNvSpPr/>
          <p:nvPr/>
        </p:nvSpPr>
        <p:spPr>
          <a:xfrm>
            <a:off x="6191280" y="437364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385720" y="4017960"/>
            <a:ext cx="137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66.16M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72"/>
          <p:cNvSpPr/>
          <p:nvPr/>
        </p:nvSpPr>
        <p:spPr>
          <a:xfrm>
            <a:off x="1827360" y="4284720"/>
            <a:ext cx="260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73"/>
          <p:cNvSpPr/>
          <p:nvPr/>
        </p:nvSpPr>
        <p:spPr>
          <a:xfrm>
            <a:off x="4435560" y="414972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Line 74"/>
          <p:cNvSpPr/>
          <p:nvPr/>
        </p:nvSpPr>
        <p:spPr>
          <a:xfrm>
            <a:off x="1846440" y="410544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3235680" y="4284720"/>
            <a:ext cx="95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9.59MB fre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Line 76"/>
          <p:cNvSpPr/>
          <p:nvPr/>
        </p:nvSpPr>
        <p:spPr>
          <a:xfrm>
            <a:off x="3086280" y="4508640"/>
            <a:ext cx="135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ine 77"/>
          <p:cNvSpPr/>
          <p:nvPr/>
        </p:nvSpPr>
        <p:spPr>
          <a:xfrm>
            <a:off x="4435560" y="437364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Line 78"/>
          <p:cNvSpPr/>
          <p:nvPr/>
        </p:nvSpPr>
        <p:spPr>
          <a:xfrm>
            <a:off x="1846440" y="437508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1855800" y="42847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6.57MB in us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80"/>
          <p:cNvSpPr/>
          <p:nvPr/>
        </p:nvSpPr>
        <p:spPr>
          <a:xfrm>
            <a:off x="1871640" y="4508640"/>
            <a:ext cx="1214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81"/>
          <p:cNvSpPr/>
          <p:nvPr/>
        </p:nvSpPr>
        <p:spPr>
          <a:xfrm>
            <a:off x="3086280" y="437364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E3BD-C45F-40B8-A417-DB69100672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cial Operation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6920" y="1924200"/>
            <a:ext cx="62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 Re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Re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n + CLR + Re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 Re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n + C-Trigger + Enter + Re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isk Cl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n + CLR 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Re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wer on Re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 battery and then power on from discharge condition without main and sub battery. (You should keep about 100 hours for discharge sub battery.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2" descr="1"/>
          <p:cNvPicPr/>
          <p:nvPr/>
        </p:nvPicPr>
        <p:blipFill>
          <a:blip r:embed="rId1"/>
          <a:stretch/>
        </p:blipFill>
        <p:spPr>
          <a:xfrm>
            <a:off x="476280" y="2259000"/>
            <a:ext cx="8115120" cy="3295800"/>
          </a:xfrm>
          <a:prstGeom prst="rect">
            <a:avLst/>
          </a:prstGeom>
          <a:ln w="0">
            <a:noFill/>
          </a:ln>
        </p:spPr>
      </p:pic>
      <p:sp>
        <p:nvSpPr>
          <p:cNvPr id="169" name="スライド番号プレースホルダ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F842-C9D8-4E16-965E-E6279EDA68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cial Operation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2771640" y="3112920"/>
            <a:ext cx="675000" cy="316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Oval 8"/>
          <p:cNvSpPr/>
          <p:nvPr/>
        </p:nvSpPr>
        <p:spPr>
          <a:xfrm>
            <a:off x="3583080" y="3338640"/>
            <a:ext cx="674640" cy="315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Oval 9"/>
          <p:cNvSpPr/>
          <p:nvPr/>
        </p:nvSpPr>
        <p:spPr>
          <a:xfrm>
            <a:off x="5246640" y="3382920"/>
            <a:ext cx="674640" cy="316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3583080" y="3968640"/>
            <a:ext cx="2475000" cy="316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Oval 13"/>
          <p:cNvSpPr/>
          <p:nvPr/>
        </p:nvSpPr>
        <p:spPr>
          <a:xfrm>
            <a:off x="6102360" y="3654360"/>
            <a:ext cx="674640" cy="316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sture Ope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スライド番号プレースホルダ 1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10AC-0800-4A96-A093-710F90B522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187280" y="2025720"/>
            <a:ext cx="626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finger Op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O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finger Op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CRO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HO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EL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OUBLESEL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5950080" y="2451240"/>
            <a:ext cx="2041560" cy="272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0" name="テキスト ボックス 8"/>
          <p:cNvSpPr/>
          <p:nvPr/>
        </p:nvSpPr>
        <p:spPr>
          <a:xfrm>
            <a:off x="5353920" y="5340240"/>
            <a:ext cx="36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ou can confirm these oper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 sample progra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04:35:44Z</dcterms:created>
  <dc:creator>casio</dc:creator>
  <dc:description/>
  <dc:language>en-US</dc:language>
  <cp:lastModifiedBy>casio</cp:lastModifiedBy>
  <dcterms:modified xsi:type="dcterms:W3CDTF">2011-08-11T08:00:25Z</dcterms:modified>
  <cp:revision>31</cp:revision>
  <dc:subject/>
  <dc:title>スライド 1</dc:title>
</cp:coreProperties>
</file>