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3.wmf" ContentType="image/x-wmf"/>
  <Override PartName="/ppt/media/image52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45.jpeg" ContentType="image/jpeg"/>
  <Override PartName="/ppt/media/image36.jpeg" ContentType="image/jpeg"/>
  <Override PartName="/ppt/media/image40.png" ContentType="image/png"/>
  <Override PartName="/ppt/media/image38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50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48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7500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7500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6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4496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7"/>
          </p:nvPr>
        </p:nvSpPr>
        <p:spPr>
          <a:xfrm>
            <a:off x="-360" y="939132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8"/>
          </p:nvPr>
        </p:nvSpPr>
        <p:spPr>
          <a:xfrm>
            <a:off x="3822840" y="939132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40BA-03D1-4B07-9475-C0D4162C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スライド番号プレースホルダ 3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2D0-8C89-4302-80F5-9A06A1BE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F46E-A99F-491B-937A-395E2EA9C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FFAF-85C8-4DB7-AA58-17955A7D6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61AD-EC78-401C-9033-42BADAF51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F482-9831-4B30-8E23-8C1D7A856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D6DC1-16A3-41E3-AF58-5F7E2F45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815F-3DC9-464A-9134-B3C789DF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E6E2B-013F-4D19-AB12-609B08C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69470-F28B-400B-A0C0-BCCCE46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8FA8-85A1-470B-8970-F86E462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5390B-2B19-4D8D-98E0-5ABF5523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1E883-3A7F-4F82-B87A-1B089F6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790D-7628-4EF2-9E4C-2DCD883E1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58F9C-E813-40FC-84EF-A0F9FB12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F15CC-4089-4855-9F38-4E54F08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4DF80-4D66-4D6D-8259-51DB63D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335F-1F4F-4FBC-91C8-71EB504C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87D67-C2CF-4584-918A-765FE287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3DA3-3D3A-46D5-982E-7409FE461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E2C4-442A-4109-8E06-1393D7457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0D0B-40F1-4523-B86C-66BA2BEA6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E7EB-CDBE-49D6-974F-7C425D7C4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9E2A-DCE0-4C20-B214-EABD6AC7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12FE-C872-4A47-B1DB-58672C469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A7C3-54E0-442F-8FF5-6B9EBF99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F6EC-6CE9-494D-8499-5E2F73F1A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0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0" y="1503360"/>
            <a:ext cx="9009000" cy="1052640"/>
            <a:chOff x="0" y="150336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1611360"/>
              <a:ext cx="712440" cy="474840"/>
              <a:chOff x="293760" y="161136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16113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16113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033640"/>
              <a:ext cx="739800" cy="474840"/>
              <a:chOff x="417600" y="203364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0336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0336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196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1503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232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FB2-F6CF-4BCB-A827-0F70DEA5EB6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588000" y="5734080"/>
            <a:ext cx="226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gust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27360" y="2573280"/>
            <a:ext cx="2497320" cy="341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casio.co.jp/system_en/pa/PADealer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2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2.casio.co.jp/system_en/pa/PADeale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F97A-84AD-4F66-BC8C-15F0D89F55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Gu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0E9-73EC-4668-A653-B61FD2614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aged Code Development Too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826920" y="1944720"/>
            <a:ext cx="79930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ols for Managed cod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Microsoft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Studio 2005 + SP1 (or 2008 + SP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 Professional SD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.3 Developer Tool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 Developer Tool Kit (If necessa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Sync 4.5 (or lat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Device Center 6.1 (for Windows Vis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IO IT-300 BDK (Basic Development Ki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  <a:hlinkClick r:id="rId1"/>
              </a:rPr>
              <a:t>http://www2.casio.co.jp/system_en/pa/PADeale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Hard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-300 including HA-J65US (USB and charging unit) and USB c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80920" y="2933640"/>
            <a:ext cx="4781520" cy="2774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7720" y="3584520"/>
            <a:ext cx="4724280" cy="2741760"/>
          </a:xfrm>
          <a:prstGeom prst="rect">
            <a:avLst/>
          </a:prstGeom>
          <a:ln w="0">
            <a:noFill/>
          </a:ln>
        </p:spPr>
      </p:pic>
      <p:sp>
        <p:nvSpPr>
          <p:cNvPr id="18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980-6F7B-48ED-8E00-FB7C3E3D0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725040" y="212580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83920" y="2508120"/>
            <a:ext cx="80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up Visual Studio 2005 and create new project, then select VB or VC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971640" y="3743280"/>
            <a:ext cx="107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73720" y="5627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3333960" y="6324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C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20"/>
          <p:cNvSpPr/>
          <p:nvPr/>
        </p:nvSpPr>
        <p:spPr>
          <a:xfrm>
            <a:off x="3132000" y="4149720"/>
            <a:ext cx="117000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27000" y="2394000"/>
            <a:ext cx="4811760" cy="39686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4"/>
          <p:cNvGrpSpPr/>
          <p:nvPr/>
        </p:nvGrpSpPr>
        <p:grpSpPr>
          <a:xfrm>
            <a:off x="4786200" y="3429000"/>
            <a:ext cx="3655800" cy="1584000"/>
            <a:chOff x="4786200" y="3429000"/>
            <a:chExt cx="3655800" cy="1584000"/>
          </a:xfrm>
        </p:grpSpPr>
        <p:sp>
          <p:nvSpPr>
            <p:cNvPr id="194" name="Text Box 39"/>
            <p:cNvSpPr/>
            <p:nvPr/>
          </p:nvSpPr>
          <p:spPr>
            <a:xfrm>
              <a:off x="6067080" y="37893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6797160" y="4365720"/>
              <a:ext cx="1553760" cy="360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6706440" y="3429000"/>
              <a:ext cx="18144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42"/>
            <p:cNvSpPr/>
            <p:nvPr/>
          </p:nvSpPr>
          <p:spPr>
            <a:xfrm>
              <a:off x="8260560" y="3429000"/>
              <a:ext cx="18144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8" name="AutoShape 43"/>
            <p:cNvCxnSpPr>
              <a:endCxn id="196" idx="1"/>
            </p:cNvCxnSpPr>
            <p:nvPr/>
          </p:nvCxnSpPr>
          <p:spPr>
            <a:xfrm flipV="1">
              <a:off x="4786200" y="4077720"/>
              <a:ext cx="1920960" cy="935640"/>
            </a:xfrm>
            <a:prstGeom prst="curvedConnector5">
              <a:avLst>
                <a:gd name="adj1" fmla="val 49934"/>
                <a:gd name="adj2" fmla="val 50000"/>
                <a:gd name="adj3" fmla="val 49934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9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5B8-EAF1-4860-BD78-2BB03C51E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2727360" y="2619360"/>
            <a:ext cx="57636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2"/>
          <p:cNvSpPr/>
          <p:nvPr/>
        </p:nvSpPr>
        <p:spPr>
          <a:xfrm>
            <a:off x="3176640" y="1854360"/>
            <a:ext cx="2665440" cy="431640"/>
          </a:xfrm>
          <a:prstGeom prst="wedgeRoundRectCallout">
            <a:avLst>
              <a:gd name="adj1" fmla="val -40828"/>
              <a:gd name="adj2" fmla="val 14191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Debug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725040" y="198900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02360" y="1854360"/>
            <a:ext cx="1209600" cy="2454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194600" y="2079720"/>
            <a:ext cx="844560" cy="1125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8"/>
          <p:cNvSpPr/>
          <p:nvPr/>
        </p:nvSpPr>
        <p:spPr>
          <a:xfrm>
            <a:off x="7363800" y="2303640"/>
            <a:ext cx="53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-30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122720" y="4734000"/>
            <a:ext cx="3556080" cy="18478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41"/>
          <p:cNvSpPr/>
          <p:nvPr/>
        </p:nvSpPr>
        <p:spPr>
          <a:xfrm>
            <a:off x="1871640" y="6129360"/>
            <a:ext cx="2076480" cy="495360"/>
          </a:xfrm>
          <a:prstGeom prst="wedgeRoundRectCallout">
            <a:avLst>
              <a:gd name="adj1" fmla="val 75458"/>
              <a:gd name="adj2" fmla="val -192629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lect “Windows Mobile 6 Professional Device”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598-D64D-4159-88E2-81166E47D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age of Common Device Contro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Visual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B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974-9518-489C-BABB-B19DEEDDC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we have released the following Common Device Control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87880" y="2979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629160" y="2981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er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531840" y="2986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359400" y="33386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CA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290040" y="334476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INCLU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0160" y="3344760"/>
            <a:ext cx="33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LIB\ARMV4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51280" y="3789360"/>
            <a:ext cx="1390680" cy="1574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1350720" cy="111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507000" y="3789360"/>
            <a:ext cx="20703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01880" y="2664000"/>
            <a:ext cx="5370480" cy="3914640"/>
          </a:xfrm>
          <a:prstGeom prst="rect">
            <a:avLst/>
          </a:prstGeom>
          <a:ln w="0">
            <a:noFill/>
          </a:ln>
        </p:spPr>
      </p:pic>
      <p:sp>
        <p:nvSpPr>
          <p:cNvPr id="22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3A5-2F6C-4D94-9D4D-D68BC847C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GetModel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 system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1062000" y="5364000"/>
            <a:ext cx="4680000" cy="809640"/>
          </a:xfrm>
          <a:prstGeom prst="wedgeRoundRectCallout">
            <a:avLst>
              <a:gd name="adj1" fmla="val -5291"/>
              <a:gd name="adj2" fmla="val -194703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, you app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#include “SystemLib.h” sentence to use System librar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1285920" y="2392200"/>
            <a:ext cx="5716440" cy="4287960"/>
          </a:xfrm>
          <a:prstGeom prst="rect">
            <a:avLst/>
          </a:prstGeom>
          <a:ln w="0">
            <a:noFill/>
          </a:ln>
        </p:spPr>
      </p:pic>
      <p:sp>
        <p:nvSpPr>
          <p:cNvPr id="230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DDD0-3EE6-46C6-8549-78CD921BAE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537000" y="3024360"/>
            <a:ext cx="4680000" cy="583920"/>
          </a:xfrm>
          <a:prstGeom prst="wedgeRoundRectCallout">
            <a:avLst>
              <a:gd name="adj1" fmla="val -49185"/>
              <a:gd name="adj2" fmla="val 117935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hould append “SysGetModelName” function sentence like thi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2595600"/>
            <a:ext cx="6300720" cy="3817800"/>
          </a:xfrm>
          <a:prstGeom prst="rect">
            <a:avLst/>
          </a:prstGeom>
          <a:ln w="0">
            <a:noFill/>
          </a:ln>
        </p:spPr>
      </p:pic>
      <p:sp>
        <p:nvSpPr>
          <p:cNvPr id="234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6AA-98B4-43F9-9736-3364245BBE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581280" y="4508640"/>
            <a:ext cx="4680000" cy="583920"/>
          </a:xfrm>
          <a:prstGeom prst="wedgeRoundRectCallout">
            <a:avLst>
              <a:gd name="adj1" fmla="val -12277"/>
              <a:gd name="adj2" fmla="val -245652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header file path setting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1646280" y="3833640"/>
            <a:ext cx="94464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22360" y="2494080"/>
            <a:ext cx="6838920" cy="4143240"/>
          </a:xfrm>
          <a:prstGeom prst="rect">
            <a:avLst/>
          </a:prstGeom>
          <a:ln w="0">
            <a:noFill/>
          </a:ln>
        </p:spPr>
      </p:pic>
      <p:sp>
        <p:nvSpPr>
          <p:cNvPr id="240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F8D-8BE0-491B-AA77-E48441298F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y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492360" y="5230800"/>
            <a:ext cx="4680000" cy="584280"/>
          </a:xfrm>
          <a:prstGeom prst="wedgeRoundRectCallout">
            <a:avLst>
              <a:gd name="adj1" fmla="val -5087"/>
              <a:gd name="adj2" fmla="val -19212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library file path setting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1782720" y="3968640"/>
            <a:ext cx="94464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32000" y="2530440"/>
            <a:ext cx="6705360" cy="4062600"/>
          </a:xfrm>
          <a:prstGeom prst="rect">
            <a:avLst/>
          </a:prstGeom>
          <a:ln w="0">
            <a:noFill/>
          </a:ln>
        </p:spPr>
      </p:pic>
      <p:sp>
        <p:nvSpPr>
          <p:cNvPr id="24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68B-588A-4209-AAE2-0345AA792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6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y file path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3178080" y="4194000"/>
            <a:ext cx="4680000" cy="584280"/>
          </a:xfrm>
          <a:prstGeom prst="wedgeRoundRectCallout">
            <a:avLst>
              <a:gd name="adj1" fmla="val -5087"/>
              <a:gd name="adj2" fmla="val -19212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set library file name in this “Property Pages”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1736640" y="4149720"/>
            <a:ext cx="944640" cy="1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C75-4DED-4DA5-AFE6-1EB3291BB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arget Platfor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16360" y="3429000"/>
            <a:ext cx="3600720" cy="3024360"/>
          </a:xfrm>
          <a:prstGeom prst="rect">
            <a:avLst/>
          </a:prstGeom>
          <a:noFill/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3919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arrow001"/>
          <p:cNvPicPr/>
          <p:nvPr/>
        </p:nvPicPr>
        <p:blipFill>
          <a:blip r:embed="rId1"/>
          <a:stretch/>
        </p:blipFill>
        <p:spPr>
          <a:xfrm>
            <a:off x="468360" y="2133720"/>
            <a:ext cx="1225440" cy="239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5437080" y="3789360"/>
            <a:ext cx="25196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 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437080" y="5229360"/>
            <a:ext cx="2664000" cy="10810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ve 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692360" y="1989000"/>
            <a:ext cx="2158920" cy="1079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692360" y="3789360"/>
            <a:ext cx="2158920" cy="107964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29760" y="30654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3" descr="arrow001"/>
          <p:cNvPicPr/>
          <p:nvPr/>
        </p:nvPicPr>
        <p:blipFill>
          <a:blip r:embed="rId2"/>
          <a:stretch/>
        </p:blipFill>
        <p:spPr>
          <a:xfrm>
            <a:off x="4068720" y="4149720"/>
            <a:ext cx="109368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4861080" y="2781360"/>
            <a:ext cx="3314520" cy="703800"/>
          </a:xfrm>
          <a:prstGeom prst="rect">
            <a:avLst/>
          </a:prstGeom>
          <a:solidFill>
            <a:srgbClr val="dddddd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65440" y="4816440"/>
            <a:ext cx="18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04880" y="2432160"/>
            <a:ext cx="5937120" cy="4327560"/>
          </a:xfrm>
          <a:prstGeom prst="rect">
            <a:avLst/>
          </a:prstGeom>
          <a:ln w="0">
            <a:noFill/>
          </a:ln>
        </p:spPr>
      </p:pic>
      <p:sp>
        <p:nvSpPr>
          <p:cNvPr id="25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CEE-18B4-4083-A12C-306D01CE76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C++  Step 7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ing and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6777000" y="3833640"/>
            <a:ext cx="2032920" cy="1854000"/>
            <a:chOff x="6777000" y="3833640"/>
            <a:chExt cx="2032920" cy="1854000"/>
          </a:xfrm>
        </p:grpSpPr>
        <p:sp>
          <p:nvSpPr>
            <p:cNvPr id="256" name="Rectangle 11"/>
            <p:cNvSpPr/>
            <p:nvPr/>
          </p:nvSpPr>
          <p:spPr>
            <a:xfrm>
              <a:off x="6882840" y="5172480"/>
              <a:ext cx="1820520" cy="515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6777000" y="3833640"/>
              <a:ext cx="212400" cy="1854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13"/>
            <p:cNvSpPr/>
            <p:nvPr/>
          </p:nvSpPr>
          <p:spPr>
            <a:xfrm>
              <a:off x="8597520" y="3833640"/>
              <a:ext cx="212400" cy="1854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9" name="AutoShape 14"/>
          <p:cNvCxnSpPr>
            <a:endCxn id="257" idx="1"/>
          </p:cNvCxnSpPr>
          <p:nvPr/>
        </p:nvCxnSpPr>
        <p:spPr>
          <a:xfrm>
            <a:off x="5923080" y="4411800"/>
            <a:ext cx="854640" cy="349920"/>
          </a:xfrm>
          <a:prstGeom prst="curvedConnector5">
            <a:avLst>
              <a:gd name="adj1" fmla="val 49810"/>
              <a:gd name="adj2" fmla="val 49948"/>
              <a:gd name="adj3" fmla="val 4981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Oval 16"/>
          <p:cNvSpPr/>
          <p:nvPr/>
        </p:nvSpPr>
        <p:spPr>
          <a:xfrm>
            <a:off x="3041640" y="2754360"/>
            <a:ext cx="3160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32760" y="2595600"/>
            <a:ext cx="1209600" cy="245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7424640" y="2820960"/>
            <a:ext cx="844560" cy="1125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"/>
          <p:cNvPicPr/>
          <p:nvPr/>
        </p:nvPicPr>
        <p:blipFill>
          <a:blip r:embed="rId4"/>
          <a:stretch/>
        </p:blipFill>
        <p:spPr>
          <a:xfrm>
            <a:off x="7424640" y="2792520"/>
            <a:ext cx="852480" cy="1035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8"/>
          <p:cNvSpPr/>
          <p:nvPr/>
        </p:nvSpPr>
        <p:spPr>
          <a:xfrm>
            <a:off x="7542360" y="2989440"/>
            <a:ext cx="495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-300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12C-CEC7-4870-B410-EEDF736B34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we have released the following Common Device Control 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849320" y="29797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LL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5452200" y="2986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B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279760" y="33386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CA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613520" y="3344760"/>
            <a:ext cx="329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:\Program Files\CASIO\MBSys\Windows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516640" y="3789360"/>
            <a:ext cx="2025720" cy="781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916280" y="3789360"/>
            <a:ext cx="13953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705720" y="1957320"/>
            <a:ext cx="2276280" cy="2371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290600" y="2573280"/>
            <a:ext cx="4541760" cy="3733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816280" y="4554360"/>
            <a:ext cx="3263760" cy="21369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4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Reference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8D2-48D6-4CB0-809B-9A4EFAC5F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AutoShape 16"/>
          <p:cNvSpPr/>
          <p:nvPr/>
        </p:nvSpPr>
        <p:spPr>
          <a:xfrm rot="19030800">
            <a:off x="6102360" y="4149360"/>
            <a:ext cx="630360" cy="316080"/>
          </a:xfrm>
          <a:prstGeom prst="rightArrow">
            <a:avLst>
              <a:gd name="adj1" fmla="val 50000"/>
              <a:gd name="adj2" fmla="val 498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20"/>
          <p:cNvSpPr/>
          <p:nvPr/>
        </p:nvSpPr>
        <p:spPr>
          <a:xfrm>
            <a:off x="7227720" y="3789360"/>
            <a:ext cx="94644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18"/>
          <p:cNvSpPr/>
          <p:nvPr/>
        </p:nvSpPr>
        <p:spPr>
          <a:xfrm>
            <a:off x="4527720" y="3519360"/>
            <a:ext cx="108108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17"/>
          <p:cNvSpPr/>
          <p:nvPr/>
        </p:nvSpPr>
        <p:spPr>
          <a:xfrm rot="19699800">
            <a:off x="4707000" y="4059000"/>
            <a:ext cx="360360" cy="583920"/>
          </a:xfrm>
          <a:prstGeom prst="downArrow">
            <a:avLst>
              <a:gd name="adj1" fmla="val 50000"/>
              <a:gd name="adj2" fmla="val 405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21"/>
          <p:cNvSpPr/>
          <p:nvPr/>
        </p:nvSpPr>
        <p:spPr>
          <a:xfrm>
            <a:off x="4662360" y="5273640"/>
            <a:ext cx="4294440" cy="584280"/>
          </a:xfrm>
          <a:prstGeom prst="wedgeRoundRectCallout">
            <a:avLst>
              <a:gd name="adj1" fmla="val 23199"/>
              <a:gd name="adj2" fmla="val -272824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of all, you append “SystemLibnet” i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erences in Solution Explor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19"/>
          <p:cNvSpPr/>
          <p:nvPr/>
        </p:nvSpPr>
        <p:spPr>
          <a:xfrm>
            <a:off x="3672000" y="5273640"/>
            <a:ext cx="90000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5761080" cy="4751640"/>
          </a:xfrm>
          <a:prstGeom prst="rect">
            <a:avLst/>
          </a:prstGeom>
          <a:ln w="0">
            <a:noFill/>
          </a:ln>
        </p:spPr>
      </p:pic>
      <p:sp>
        <p:nvSpPr>
          <p:cNvPr id="287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FD4-76D7-4C41-8EE8-74D28FFCD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701640" y="5408640"/>
            <a:ext cx="4680000" cy="406440"/>
          </a:xfrm>
          <a:prstGeom prst="wedgeRoundRectCallout">
            <a:avLst>
              <a:gd name="adj1" fmla="val 25337"/>
              <a:gd name="adj2" fmla="val -404296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rite code which is using system library fun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01640" y="2459160"/>
            <a:ext cx="4995720" cy="4119480"/>
          </a:xfrm>
          <a:prstGeom prst="rect">
            <a:avLst/>
          </a:prstGeom>
          <a:ln w="0">
            <a:noFill/>
          </a:ln>
        </p:spPr>
      </p:pic>
      <p:sp>
        <p:nvSpPr>
          <p:cNvPr id="29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8FE-C0D9-477D-86AC-F1EBC5ADA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.NET  Step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ing and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2681280" y="2708280"/>
            <a:ext cx="31608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67000" y="4643280"/>
            <a:ext cx="3691080" cy="1917720"/>
          </a:xfrm>
          <a:prstGeom prst="rect">
            <a:avLst/>
          </a:prstGeom>
          <a:ln w="0">
            <a:noFill/>
          </a:ln>
        </p:spPr>
      </p:pic>
      <p:sp>
        <p:nvSpPr>
          <p:cNvPr id="297" name="Oval 15"/>
          <p:cNvSpPr/>
          <p:nvPr/>
        </p:nvSpPr>
        <p:spPr>
          <a:xfrm>
            <a:off x="2232000" y="5184720"/>
            <a:ext cx="31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6956280" y="4013280"/>
            <a:ext cx="2032920" cy="1853640"/>
            <a:chOff x="6956280" y="4013280"/>
            <a:chExt cx="2032920" cy="1853640"/>
          </a:xfrm>
        </p:grpSpPr>
        <p:sp>
          <p:nvSpPr>
            <p:cNvPr id="299" name="Rectangle 11"/>
            <p:cNvSpPr/>
            <p:nvPr/>
          </p:nvSpPr>
          <p:spPr>
            <a:xfrm>
              <a:off x="7062120" y="5351760"/>
              <a:ext cx="1820520" cy="515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6956280" y="4013280"/>
              <a:ext cx="212400" cy="1853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13"/>
            <p:cNvSpPr/>
            <p:nvPr/>
          </p:nvSpPr>
          <p:spPr>
            <a:xfrm>
              <a:off x="8776800" y="4013280"/>
              <a:ext cx="212400" cy="1853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302" name="AutoShape 14"/>
          <p:cNvCxnSpPr>
            <a:endCxn id="300" idx="1"/>
          </p:cNvCxnSpPr>
          <p:nvPr/>
        </p:nvCxnSpPr>
        <p:spPr>
          <a:xfrm>
            <a:off x="6102360" y="4591080"/>
            <a:ext cx="854640" cy="349920"/>
          </a:xfrm>
          <a:prstGeom prst="curvedConnector5">
            <a:avLst>
              <a:gd name="adj1" fmla="val 49810"/>
              <a:gd name="adj2" fmla="val 49948"/>
              <a:gd name="adj3" fmla="val 4981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412040" y="2774880"/>
            <a:ext cx="1209600" cy="2454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7593120" y="3036960"/>
            <a:ext cx="847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4372-15D7-46F1-A41F-24705513E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age of Emul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Visual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VB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Devic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5C6-C661-4386-95A4-BE31E3398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tart emulation, r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IT-300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Start men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IO Device E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5772240" y="3497400"/>
            <a:ext cx="1911240" cy="276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6280" y="4508640"/>
            <a:ext cx="3276720" cy="666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808440" y="3519360"/>
            <a:ext cx="18223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A4A-F4EF-4569-8002-54594F5D6B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Emulator Mana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Visual Studio 2005 men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566640" y="3249720"/>
            <a:ext cx="2205000" cy="3012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2816280" y="5273640"/>
            <a:ext cx="817560" cy="554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58080" y="338940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3716280" y="410364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45400" y="172404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2"/>
          <a:stretch/>
        </p:blipFill>
        <p:spPr>
          <a:xfrm>
            <a:off x="476280" y="2033640"/>
            <a:ext cx="3629160" cy="3095640"/>
          </a:xfrm>
          <a:prstGeom prst="rect">
            <a:avLst/>
          </a:prstGeom>
          <a:ln w="0">
            <a:noFill/>
          </a:ln>
        </p:spPr>
      </p:pic>
      <p:sp>
        <p:nvSpPr>
          <p:cNvPr id="32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B47-B96E-49B6-AFEB-BD9B82292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16" descr=""/>
          <p:cNvPicPr/>
          <p:nvPr/>
        </p:nvPicPr>
        <p:blipFill>
          <a:blip r:embed="rId3"/>
          <a:stretch/>
        </p:blipFill>
        <p:spPr>
          <a:xfrm>
            <a:off x="5877000" y="4194000"/>
            <a:ext cx="2751120" cy="2421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595440" y="3400560"/>
            <a:ext cx="1861920" cy="29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2322360" y="2124000"/>
            <a:ext cx="2953080" cy="863640"/>
          </a:xfrm>
          <a:prstGeom prst="wedgeRoundRectCallout">
            <a:avLst>
              <a:gd name="adj1" fmla="val -81398"/>
              <a:gd name="adj2" fmla="val 92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ActiveSync set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4481640" y="446400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197000" y="4059360"/>
            <a:ext cx="3135240" cy="23619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15"/>
          <p:cNvSpPr/>
          <p:nvPr/>
        </p:nvSpPr>
        <p:spPr>
          <a:xfrm>
            <a:off x="3357720" y="5229360"/>
            <a:ext cx="2952720" cy="1081080"/>
          </a:xfrm>
          <a:prstGeom prst="wedgeRoundRectCallout">
            <a:avLst>
              <a:gd name="adj1" fmla="val -64944"/>
              <a:gd name="adj2" fmla="val 44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n ActiveSync connection will be establis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11280" y="2116080"/>
            <a:ext cx="5626080" cy="4100400"/>
          </a:xfrm>
          <a:prstGeom prst="rect">
            <a:avLst/>
          </a:prstGeom>
          <a:ln w="0">
            <a:noFill/>
          </a:ln>
        </p:spPr>
      </p:pic>
      <p:sp>
        <p:nvSpPr>
          <p:cNvPr id="33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9E5B-1A3F-4E30-8EA7-C4F5FE527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isual C++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Oval 13"/>
          <p:cNvSpPr/>
          <p:nvPr/>
        </p:nvSpPr>
        <p:spPr>
          <a:xfrm>
            <a:off x="2097000" y="2484360"/>
            <a:ext cx="4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5607000" y="3519360"/>
            <a:ext cx="1123920" cy="505080"/>
          </a:xfrm>
          <a:prstGeom prst="rightArrow">
            <a:avLst>
              <a:gd name="adj1" fmla="val 50000"/>
              <a:gd name="adj2" fmla="val 556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821640" y="2168640"/>
            <a:ext cx="2109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CD9-C66C-4D34-97BF-DC25A69E5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nage and Nati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042920" y="4122720"/>
          <a:ext cx="77724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22720"/>
                    <a:ext cx="7772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14"/>
          <p:cNvSpPr/>
          <p:nvPr/>
        </p:nvSpPr>
        <p:spPr>
          <a:xfrm>
            <a:off x="826920" y="2205000"/>
            <a:ext cx="2665440" cy="19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Studio 2005 or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　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826920" y="4437000"/>
            <a:ext cx="2665440" cy="20890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ve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ual Studio 2005 or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3640" y="1988640"/>
            <a:ext cx="4825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d 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s Managed Code on Common Language Run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exploit .NET applications and XML Web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develop application software by Drag &amp; Drop operation visuall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improve productivity by Custom Contr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tive 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s Computer Binary Co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derive functions and performance of the devices at mos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n optimize performance and process spe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AAC-4773-471E-8D41-F70876105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tart emulation, r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IT-300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Start men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IO Device E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5772240" y="3497400"/>
            <a:ext cx="1911240" cy="27669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6280" y="4508640"/>
            <a:ext cx="3276720" cy="666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3808440" y="3519360"/>
            <a:ext cx="18223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077-CEAD-4736-9B6F-806A7588B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Emulator Mana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Visual Studio 2005 menu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566640" y="3249720"/>
            <a:ext cx="2205000" cy="301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2"/>
          <a:stretch/>
        </p:blipFill>
        <p:spPr>
          <a:xfrm>
            <a:off x="2816280" y="5273640"/>
            <a:ext cx="817560" cy="5540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958080" y="3389400"/>
            <a:ext cx="1822320" cy="28303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716280" y="410364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686640" y="1763640"/>
            <a:ext cx="1822320" cy="28306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2"/>
          <a:stretch/>
        </p:blipFill>
        <p:spPr>
          <a:xfrm>
            <a:off x="476280" y="2033640"/>
            <a:ext cx="3629160" cy="3095640"/>
          </a:xfrm>
          <a:prstGeom prst="rect">
            <a:avLst/>
          </a:prstGeom>
          <a:ln w="0">
            <a:noFill/>
          </a:ln>
        </p:spPr>
      </p:pic>
      <p:sp>
        <p:nvSpPr>
          <p:cNvPr id="353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921-00F2-44BB-BAB4-EEB8F67E7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3"/>
          <a:stretch/>
        </p:blipFill>
        <p:spPr>
          <a:xfrm>
            <a:off x="5877000" y="4194000"/>
            <a:ext cx="2751120" cy="2421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1"/>
          <p:cNvSpPr/>
          <p:nvPr/>
        </p:nvSpPr>
        <p:spPr>
          <a:xfrm>
            <a:off x="595440" y="3400560"/>
            <a:ext cx="1861920" cy="29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2322360" y="2124000"/>
            <a:ext cx="2953080" cy="863640"/>
          </a:xfrm>
          <a:prstGeom prst="wedgeRoundRectCallout">
            <a:avLst>
              <a:gd name="adj1" fmla="val -81398"/>
              <a:gd name="adj2" fmla="val 92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ActiveSync set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18"/>
          <p:cNvSpPr/>
          <p:nvPr/>
        </p:nvSpPr>
        <p:spPr>
          <a:xfrm>
            <a:off x="4481640" y="446400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1197000" y="4059360"/>
            <a:ext cx="3135240" cy="23619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5"/>
          <p:cNvSpPr/>
          <p:nvPr/>
        </p:nvSpPr>
        <p:spPr>
          <a:xfrm>
            <a:off x="3357720" y="5229360"/>
            <a:ext cx="2952720" cy="1081080"/>
          </a:xfrm>
          <a:prstGeom prst="wedgeRoundRectCallout">
            <a:avLst>
              <a:gd name="adj1" fmla="val -71990"/>
              <a:gd name="adj2" fmla="val 3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n ActiveSync connection will be establis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66640" y="2259000"/>
            <a:ext cx="5626080" cy="410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511280" y="4564080"/>
            <a:ext cx="4051440" cy="2104920"/>
          </a:xfrm>
          <a:prstGeom prst="rect">
            <a:avLst/>
          </a:prstGeom>
          <a:ln w="0">
            <a:noFill/>
          </a:ln>
        </p:spPr>
      </p:pic>
      <p:sp>
        <p:nvSpPr>
          <p:cNvPr id="36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3C6E-937F-449D-A2D0-F6AE88B099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ulator (VB.NE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5651640" y="4103640"/>
            <a:ext cx="1123920" cy="504720"/>
          </a:xfrm>
          <a:prstGeom prst="rightArrow">
            <a:avLst>
              <a:gd name="adj1" fmla="val 50000"/>
              <a:gd name="adj2" fmla="val 556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2816280" y="2529000"/>
            <a:ext cx="31572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1511280" y="5094360"/>
            <a:ext cx="1305000" cy="3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867360" y="2438280"/>
            <a:ext cx="20163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7360" y="2664000"/>
            <a:ext cx="1898640" cy="2958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238640" y="2664000"/>
            <a:ext cx="1908000" cy="2971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50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control the following device on this emulat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84C-C122-4394-99E4-B6D0479B1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50560" y="233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Oval 8"/>
          <p:cNvSpPr/>
          <p:nvPr/>
        </p:nvSpPr>
        <p:spPr>
          <a:xfrm>
            <a:off x="1692360" y="3743280"/>
            <a:ext cx="135072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461600" y="5904000"/>
            <a:ext cx="53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you ref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 C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older in this emulator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are some these devices fold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7125-98B5-4812-8902-8DA9389CE6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500480" y="2211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348480" y="5257800"/>
            <a:ext cx="81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you use Bluetooth control library on emulator, emulator devices wi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 the setting parameter or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when you change these file detail, you can get your expected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492360" y="2168640"/>
            <a:ext cx="19036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EEC-5197-4DCF-B076-79B686825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velopment Tool for Native Cli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826920" y="1944720"/>
            <a:ext cx="79930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ols for Native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Microsoft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Studio 2005 + SP1 (or 2008 + SP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 Professional SD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.3 Developer Tool K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6.5 Developer Tool Kit (If necessa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Sync 4.5 (or lat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Windows Mobile Device Center 6.1 (for Windows Vis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Soft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IO IT-300 BDK (Basic Development Ki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* Please download tools listed above from Microsoft Home Pag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  <a:hlinkClick r:id="rId1"/>
              </a:rPr>
              <a:t>http://www2.casio.co.jp/system_en/pa/PADeale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CASIO (Hardwa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-300 including HA-J65US (USB and charging unit) and USB c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1640" y="2708280"/>
            <a:ext cx="6205680" cy="3414600"/>
          </a:xfrm>
          <a:prstGeom prst="rect">
            <a:avLst/>
          </a:prstGeom>
          <a:ln w="0">
            <a:noFill/>
          </a:ln>
        </p:spPr>
      </p:pic>
      <p:sp>
        <p:nvSpPr>
          <p:cNvPr id="135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C1D-FB47-43DF-97E2-CE84984563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93160" y="2224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1916280" y="4599000"/>
            <a:ext cx="1035000" cy="1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6F21-3F94-423D-9F2D-3A531C1568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7426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62360" y="2124000"/>
            <a:ext cx="3646440" cy="266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37000" y="3743280"/>
            <a:ext cx="3870360" cy="2825640"/>
          </a:xfrm>
          <a:prstGeom prst="rect">
            <a:avLst/>
          </a:prstGeom>
          <a:ln w="0">
            <a:noFill/>
          </a:ln>
        </p:spPr>
      </p:pic>
      <p:sp>
        <p:nvSpPr>
          <p:cNvPr id="144" name="Oval 25"/>
          <p:cNvSpPr/>
          <p:nvPr/>
        </p:nvSpPr>
        <p:spPr>
          <a:xfrm>
            <a:off x="6867360" y="4734000"/>
            <a:ext cx="144000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46280" y="2708280"/>
            <a:ext cx="3555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63EE-30F1-4B8B-B179-665177CF1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694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22360" y="2496960"/>
            <a:ext cx="45450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5560" y="2570040"/>
            <a:ext cx="4456080" cy="324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311640" y="3114720"/>
            <a:ext cx="542124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3F6D-A874-4964-9394-A2564B8BC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969480" y="198108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462720" y="3700440"/>
            <a:ext cx="144000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48F-43F5-4D68-932B-655527516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s of Software Development 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888120" y="5950080"/>
            <a:ext cx="671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building the program, it is necessary to connect the IT-300 to the PC b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ive Sync.   Active Sync can be download from Microsoft Web si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876920" y="4049640"/>
            <a:ext cx="3655080" cy="1584000"/>
            <a:chOff x="4876920" y="4049640"/>
            <a:chExt cx="3655080" cy="1584000"/>
          </a:xfrm>
        </p:grpSpPr>
        <p:sp>
          <p:nvSpPr>
            <p:cNvPr id="160" name="Text Box 39"/>
            <p:cNvSpPr/>
            <p:nvPr/>
          </p:nvSpPr>
          <p:spPr>
            <a:xfrm>
              <a:off x="6157800" y="4410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40"/>
            <p:cNvSpPr/>
            <p:nvPr/>
          </p:nvSpPr>
          <p:spPr>
            <a:xfrm>
              <a:off x="6887520" y="4986360"/>
              <a:ext cx="1553760" cy="3603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41"/>
            <p:cNvSpPr/>
            <p:nvPr/>
          </p:nvSpPr>
          <p:spPr>
            <a:xfrm>
              <a:off x="6797160" y="4049640"/>
              <a:ext cx="18108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42"/>
            <p:cNvSpPr/>
            <p:nvPr/>
          </p:nvSpPr>
          <p:spPr>
            <a:xfrm>
              <a:off x="8350920" y="4049640"/>
              <a:ext cx="181080" cy="1297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64" name="AutoShape 43"/>
            <p:cNvCxnSpPr>
              <a:endCxn id="162" idx="1"/>
            </p:cNvCxnSpPr>
            <p:nvPr/>
          </p:nvCxnSpPr>
          <p:spPr>
            <a:xfrm flipV="1">
              <a:off x="4876920" y="4698360"/>
              <a:ext cx="1920960" cy="935640"/>
            </a:xfrm>
            <a:prstGeom prst="curvedConnector5">
              <a:avLst>
                <a:gd name="adj1" fmla="val 49934"/>
                <a:gd name="adj2" fmla="val 50000"/>
                <a:gd name="adj3" fmla="val 49934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65" name="Rectangle 53"/>
          <p:cNvSpPr/>
          <p:nvPr/>
        </p:nvSpPr>
        <p:spPr>
          <a:xfrm>
            <a:off x="969480" y="212580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sual Studio 2005 (Visual C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59"/>
          <p:cNvGrpSpPr/>
          <p:nvPr/>
        </p:nvGrpSpPr>
        <p:grpSpPr>
          <a:xfrm>
            <a:off x="1219320" y="2590920"/>
            <a:ext cx="3671640" cy="3168360"/>
            <a:chOff x="1219320" y="2590920"/>
            <a:chExt cx="3671640" cy="3168360"/>
          </a:xfrm>
        </p:grpSpPr>
        <p:sp>
          <p:nvSpPr>
            <p:cNvPr id="167" name="Rectangle 7"/>
            <p:cNvSpPr/>
            <p:nvPr/>
          </p:nvSpPr>
          <p:spPr>
            <a:xfrm>
              <a:off x="1219320" y="2590920"/>
              <a:ext cx="3671640" cy="31683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4425840" y="5418000"/>
              <a:ext cx="233640" cy="24300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Oval 10"/>
            <p:cNvSpPr/>
            <p:nvPr/>
          </p:nvSpPr>
          <p:spPr>
            <a:xfrm>
              <a:off x="252108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270684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12"/>
            <p:cNvSpPr/>
            <p:nvPr/>
          </p:nvSpPr>
          <p:spPr>
            <a:xfrm>
              <a:off x="2892600" y="5514840"/>
              <a:ext cx="13968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Oval 13"/>
            <p:cNvSpPr/>
            <p:nvPr/>
          </p:nvSpPr>
          <p:spPr>
            <a:xfrm>
              <a:off x="317196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340344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Oval 15"/>
            <p:cNvSpPr/>
            <p:nvPr/>
          </p:nvSpPr>
          <p:spPr>
            <a:xfrm>
              <a:off x="3635280" y="5564160"/>
              <a:ext cx="185760" cy="493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75" name="Picture 58" descr=""/>
            <p:cNvPicPr/>
            <p:nvPr/>
          </p:nvPicPr>
          <p:blipFill>
            <a:blip r:embed="rId1"/>
            <a:stretch/>
          </p:blipFill>
          <p:spPr>
            <a:xfrm>
              <a:off x="1332000" y="2843280"/>
              <a:ext cx="3465360" cy="22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36"/>
          <p:cNvSpPr/>
          <p:nvPr/>
        </p:nvSpPr>
        <p:spPr>
          <a:xfrm>
            <a:off x="476280" y="4059360"/>
            <a:ext cx="4680000" cy="1054080"/>
          </a:xfrm>
          <a:prstGeom prst="wedgeRoundRectCallout">
            <a:avLst>
              <a:gd name="adj1" fmla="val -6851"/>
              <a:gd name="adj2" fmla="val -132833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application program will be downloaded to the IT-300 after compiling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breakpoints are set, the program stops at each point while the IT-300 is connected as remote connecti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093080" y="2438280"/>
            <a:ext cx="1209600" cy="2454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284960" y="2664000"/>
            <a:ext cx="8445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4:35:44Z</dcterms:created>
  <dc:creator>casio</dc:creator>
  <dc:description/>
  <dc:language>en-US</dc:language>
  <cp:lastModifiedBy>casio</cp:lastModifiedBy>
  <dcterms:modified xsi:type="dcterms:W3CDTF">2011-08-10T07:34:57Z</dcterms:modified>
  <cp:revision>30</cp:revision>
  <dc:subject/>
  <dc:title>スライド 1</dc:title>
</cp:coreProperties>
</file>